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BDB-4B4D-40E3-8556-725CF50A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0B4-E55D-401A-A14B-A54A5E69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B05-2767-43A3-BAA3-895195D0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AC6-D9A1-4C40-8570-C084F68A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59F-8154-4FFB-89C4-2CA7AD47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995-31BC-4150-9750-22208F0C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083-A577-40B4-8757-DA41C53E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1E6-8E01-40BB-B071-CB2408D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134-625B-4955-9527-2643E3D0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E50-CA45-4884-B771-EB8AB0A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E39-5C76-461C-B92E-B64D185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9ED-B177-4D49-8F23-B125903B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97E6-7995-43E9-A531-5E22EBD0D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 Clase 8IM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14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:  ¿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o repasamos el trabajo del ano pas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</a:rPr>
              <a:t>Escritura en Silen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3200" spc="-1" strike="noStrike">
                <a:solidFill>
                  <a:srgbClr val="333399"/>
                </a:solidFill>
                <a:latin typeface="Arial"/>
              </a:rPr>
              <a:t>Inventa unas vacaciones. ¿Adónde vas? ¿Qué haces? ¿Qué tiempo h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un pronombre? ¿Cuále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un verbo? Escribe 3 ejemplos en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conjugar un verb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Pres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2133720"/>
          <a:ext cx="8763120" cy="452592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2057400"/>
                <a:gridCol w="205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0" y="114300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es el pres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121932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Arial"/>
              </a:rPr>
              <a:t>Acción que ocurre en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600" y="1676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Arial"/>
              </a:rPr>
              <a:t>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3080" y="167652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9900"/>
                </a:solidFill>
                <a:latin typeface="Arial"/>
              </a:rPr>
              <a:t>Action that ocurrs in the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 del Pres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505240"/>
                <a:gridCol w="1860480"/>
                <a:gridCol w="1931760"/>
                <a:gridCol w="193212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iaj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r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dmi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io _________ a Costa Rica. (viaj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 ir a Costa Rica también. (des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_ una nota buena en el examen. (recib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onio y yo ___________ ir a las Islas Galápagos. (que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¡________ uds. en las montanas en el inverno! (esqui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El Pretér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es el preter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09680" y="2255760"/>
          <a:ext cx="4403520" cy="4525920"/>
        </p:xfrm>
        <a:graphic>
          <a:graphicData uri="http://schemas.openxmlformats.org/drawingml/2006/table">
            <a:tbl>
              <a:tblPr/>
              <a:tblGrid>
                <a:gridCol w="2527200"/>
                <a:gridCol w="18763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190400" y="121932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Arial"/>
              </a:rPr>
              <a:t>Acción que ocurrió y termin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6600" y="16765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Arial"/>
              </a:rPr>
              <a:t>el pas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1640" y="1676520"/>
            <a:ext cx="50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9900"/>
                </a:solidFill>
                <a:latin typeface="Arial"/>
              </a:rPr>
              <a:t>Action that ocurred and finished in the p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Practica del Pretér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1676520"/>
          <a:ext cx="6324480" cy="4525920"/>
        </p:xfrm>
        <a:graphic>
          <a:graphicData uri="http://schemas.openxmlformats.org/drawingml/2006/table">
            <a:tbl>
              <a:tblPr/>
              <a:tblGrid>
                <a:gridCol w="3053880"/>
                <a:gridCol w="32706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acacio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yer nosotras ____________ en la piscina. (nad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ño pasado ellos ______________ un barco. (alqui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emana pasada él ______________ en el agua. (esqu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yer por la mañana yo ______________ el sol. 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yer por 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la tarde tú ________________. (bucea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ll supplies to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5 subject spiral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inch soft b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22:31:08Z</dcterms:created>
  <dc:creator>Helen Zumaeta</dc:creator>
  <dc:description/>
  <dc:language>en-US</dc:language>
  <cp:lastModifiedBy>Helen Zumaeta</cp:lastModifiedBy>
  <dcterms:modified xsi:type="dcterms:W3CDTF">2012-09-14T20:45:26Z</dcterms:modified>
  <cp:revision>7</cp:revision>
  <dc:subject/>
  <dc:title>Me llamo _______ Clase 8IM La fecha es el 14 de septiembre del 2012</dc:title>
</cp:coreProperties>
</file>